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487-C2D5-4186-83EA-68EF9EA5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541-F2AE-425A-A580-55885689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8EA-A19F-42AE-A119-DE971A1E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9CD-EAD3-41CA-80A1-C43344E8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CD6-C23C-4712-B787-5F16D1B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38D-9012-4C0D-9197-EC7D410B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C27-7BAE-4A44-AE4D-40F89C6F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8F7-24C2-4506-B0A8-157D6F38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791-04FA-4609-A726-29638AE5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78E-4070-4443-98D7-8FE83D4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7B6-FE1F-4D02-A5D5-CBC8C63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AC8-8755-4E4F-A21B-A5AA8CE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92C-B318-4625-AF36-AFDBA2D6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allphoto.lab.nu/centralparkzoo/CRW_3739?full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llphoto.lab.nu/centralparkzoo/IMG_2010?full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nimals at the Zoo, Oh My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56386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ten by Jessica Kratzer, Literacy &amp; Assistive Technology Coach, D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Boardmak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The Picture Communication Symbols © 1981-2004 by Mayer-Johnson LLC. All Rights Reserved Worldwide. Used with Permis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1906560" cy="30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3044880" cy="293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92760" y="2209680"/>
            <a:ext cx="24512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rd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730680" cy="279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730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h my!   Oh my!  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a Lion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53308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urtle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0880"/>
            <a:ext cx="60958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key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53308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nda Bear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267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on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5120" y="28195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raffe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619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phant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51786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nakes, oh 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ƒ{[ƒ‹ƒjƒVƒLƒwƒr"/>
          <p:cNvPicPr/>
          <p:nvPr/>
        </p:nvPicPr>
        <p:blipFill>
          <a:blip r:embed="rId1"/>
          <a:stretch/>
        </p:blipFill>
        <p:spPr>
          <a:xfrm>
            <a:off x="155520" y="46080"/>
            <a:ext cx="5330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22:51:56Z</dcterms:created>
  <dc:creator>kgorman</dc:creator>
  <dc:description/>
  <dc:language>en-US</dc:language>
  <cp:lastModifiedBy>cbender</cp:lastModifiedBy>
  <dcterms:modified xsi:type="dcterms:W3CDTF">2005-06-06T17:05:23Z</dcterms:modified>
  <cp:revision>11</cp:revision>
  <dc:subject/>
  <dc:title>Animals at the Zoo!</dc:title>
</cp:coreProperties>
</file>